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EDD-E206-4EF0-81C8-45359CDA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2B1-57DD-49F6-888B-1950AFFD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08F34-3681-4FE3-99F0-304EE294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7EAC7-E591-41D0-A98B-88689F18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AE1D9-E978-48C9-8E4A-770A131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01095-8120-4E34-B5CF-C67C629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80BE5-5AC4-4B0D-ACE3-171177D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DF73B-6276-4621-B9EE-7EA6166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21FEE-592A-4BF3-BE70-9E8AF070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B4B3C-B10B-4E44-A8BF-2D612CBD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28529-CF37-4AF8-86E0-34AC68C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F74B8-EA57-4333-B2E3-814F5605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385-8A0B-45C9-B372-C749684F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895A8-F100-4282-8EF7-31C990A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0F116-FE40-4C96-A810-61A6D581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CCF92-B116-4ECF-895A-0253F420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3633-EA85-46FC-BB72-82CD89D8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461B9-0255-4CEE-B322-1727A73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5DA01-0CC3-4484-898D-AB3CC51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F75F2-C863-4C95-B9DE-22FB2D8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2AEEF-DAE3-4C39-9095-AEE12B84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7273-085B-4966-981F-4164055F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2A48-7382-48CC-B63A-56A3D527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86C-5FA6-4683-8A4F-70CC341F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FEB03-CC59-4FB8-A2E1-3F5909E4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47F39-A0F6-42ED-9115-0D3FCFAE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686ED-978F-4E3A-BD2E-5B5D5F1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6D640-5D83-4B3A-8ECA-7BEAC78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4B42B-8A11-4EAC-9AA4-5C0F356A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C11B7-5504-4D31-AD70-4349C206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A771C-6ED5-4D92-9EE1-553651AD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120D6-06E1-4DB4-BCF3-08ED04C7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02A89-2B6C-4E64-91C2-CD9FE125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1A6B-96F5-46F6-80FC-5D8B5C1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797B-EE9A-4116-951C-9A43798A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3DE0-F77A-4B3B-A37A-496A72C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88E36-E2F4-4DFA-BDF6-EF52CE80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FF602-E80F-40A6-A690-509A596F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56BEF-34EF-4BB2-9800-DB2DFCF2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45158-2A45-42DE-98EB-09D0056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2905A-7222-4A25-B27B-A3953D7E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F4A46-9041-4841-A96F-EEA9025C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A7978-BEAC-4F03-B807-ECCC7790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7F521-CF9A-4A93-A800-6820226D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5A139-7B1D-40CB-82D0-D238188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B94-B6A2-49D9-B15D-BE1DF16C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A34A3-E8A4-44C8-8603-9F9D321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A5836-735F-4A20-B15F-AE52353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32324-EFB1-4696-AEE6-E905B64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E5F52-4A00-464A-ABCF-3818C026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FD95F-C2B0-47A5-8CB0-B697188F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57943-EFED-48C1-9191-0264FA44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50D85-6855-481A-A622-143B0F7A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4BA83-4364-4458-8605-23A90AAD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9FAEE-8DE4-48C0-9CED-5AF80B8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193FD-7A2B-4FC5-BB1E-3C14D946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1335-AB31-4735-95D1-818728E9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850B4-FF30-4820-ADFE-2765C8FB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68241-93C1-48DC-8363-F59B184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1F572-7995-42F3-90A9-B5574E0C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23CFA-7CF6-4AAE-9B35-4218D448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328BC-4972-4050-939A-5E4486B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17FC1-F4BF-4BF5-ADFC-711D3B5F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83FD3-A8FD-47BC-BF64-84065837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6F51D-B737-4257-85CC-A17D8AF2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76EFE-6DBD-4303-98AA-9AFEEDA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48822-89CA-4EAB-ADCD-3E1C131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9F9A-6280-4357-B3FE-97D272D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84F07-C78B-43D9-8B1B-910CFF3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73D59-C5C2-4432-9A9C-E00637A5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36514-F43C-4710-A294-3743A0D1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8EA83-5446-4971-86DB-61914A5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9AA94-6EC6-4F27-B7E7-DA8C1CF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AC1BF-4E7E-4E0A-B12E-7AEF71B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C63FB-012A-4EF1-BA78-080330D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0F593-C688-4572-BB54-F898F9B0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9CE64-E940-45B8-8D6B-82F34DA9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6D0B8-CAF2-4FC3-A410-A2B95B2B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85B-B79D-4DA7-B4DB-E2E5549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54388-3D9D-4BC6-81A4-5E46AD6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484EF-EE15-4164-81F3-45B6BC8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B12B7-DFE6-46D9-9BF8-5DFF414F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C8F7A-E290-455B-BFDF-C9F985D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D11CF-5F92-4818-844D-DCBDFC56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DB1A7-B8F5-47F6-8623-8567884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3890C-A38A-49E7-B1E0-E8A40C3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E69DF-F348-4A43-A421-E74DFEB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03491-7855-4EAA-BDE1-E6A12F7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1F63E-A1FB-4A65-BC90-180B0A42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BE4F-A189-45B4-9FC2-9611E27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20C1E-243D-4EA5-AFB6-0E92F104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BA81D-6AB3-4E42-AE6A-9C458B8B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4EC23-FFEB-47E2-A7E2-9308BA4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26164-E41F-4786-BD4C-1F7CD9D5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121AF-4ACF-418A-BCF7-9DA1191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8A235-C9C9-49DE-9785-44384B0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C9FC6-6F98-4D5B-8645-2F7E950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892E1-C889-449A-B0B8-298F07F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90BC7-CFAC-40CB-8A82-38F2056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E349B-63EE-49F5-88D4-270AD51D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77C4-1B3B-4CEC-8D58-9E3DC83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3B5E3-E70E-454E-B572-BC15CE21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B5BFA-B234-4280-8A4F-D77A6EA8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F75E2-47B8-4D93-82DB-36BAC9E4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181B1-1B09-4AF4-8E8D-1B81CFC6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FD85B-9E0B-4168-B3C3-5CA94D7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BF647-A17B-46DD-BE91-4F1DAF3E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2E78F-E744-42BD-B625-1F393C0F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856A5-1CB1-4818-9CF3-E582336E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BE161-4D21-498E-99E0-33CD098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5AF60-4D1B-4C32-8D9A-3FADA81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72B-2407-4005-A160-97C08D79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1AC3-F615-495B-9CED-8EE127D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41C1C-C5D7-4779-8817-D83B2E63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2BB4E-EA25-4128-B523-32BB8D2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E4119-250E-4926-B68F-9C16516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835F7-66A1-48E4-8405-B82A2E8F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2FCC5-0513-4FDA-82B7-CE1BC11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4707F-7239-400B-B662-24EB2190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197CF-D224-40B4-AC41-0FA15036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37584-AF4F-4C4B-AE7A-F42930F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84F4D-61B9-44A4-BF6B-AD5DF8E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51521-1BBA-4B3F-A273-E100228E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44D4-322F-4A0A-A072-3D963EC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9E88B-4D73-418E-8439-5C5983E2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BE4DC-01A7-474E-9BDD-F3C3C969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345B9-81D9-45BA-BB6E-BA8D012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19AA3-41FB-4BD0-8B4E-2E1D800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5EC68-6852-47D4-9A1B-92D007B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E62E0-84B6-4F56-A33E-52AFA45C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D17F4-7A6A-4886-A997-37792A98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5F4002-EBF6-4F33-B235-BDAC5D8C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98C5A-E98C-4D11-A8B3-2B2C5332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3718E-4BCE-4BA1-AAE9-D3CC536D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203B-CCE5-49F0-BF15-06BADB5B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23B2C-73CB-4DC3-BFE2-26858FD8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C5C14-04BD-42FC-866F-6F4439A9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BDC43-7446-457F-8420-5642CC97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86E11-0417-4B8E-BDC6-B2D3859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FE416-FB83-4A5C-9BA0-3638F08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6F51E-D3B3-480A-8C21-323AEA8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514E4-2FA2-4234-954A-C11A2787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19E2C-07E8-4C7B-834F-2C58C92C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0DF1E-1A9C-4806-BE6B-D88BFCF0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6B581-03EF-439A-953D-3658B3A9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54D-10A8-4376-8CA4-F5028A58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48ADA-E647-45F0-AC86-F93C81F8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B0BFB-7535-480D-876E-3B187C2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F5C67-63A6-4EA3-86DB-8D8A2CA0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12004-24AA-4725-9092-B854D78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8C20B-8162-4A9E-84B5-92C091EC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533FB-E922-41EB-AA07-97EC09B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6F717-AC13-4198-B1F7-52F80663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378E0-70F9-4172-92AA-75CDDDC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6084E-70C5-43B2-B629-406474BD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A6E38-2130-4F9B-A13B-B885B44C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BAB3-A578-46F6-AE29-B69ABCC2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CDDC6-60DF-4F62-A67F-68895558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1CD3B5-FE61-45B0-9312-F81A8AA0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76BC0C-238B-4CB2-AC97-43484317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5A9D7-C202-4B81-BB2D-CD17331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3997A-F143-4F14-AC18-F73FC2FB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92F5D-59AA-4EB1-9553-50F57711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E64E9-8F86-40D1-8D39-B5C8D85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134C2-FAD7-41BA-8E12-3408105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7D8D2-11D1-4FE0-ACB1-23528A9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8A9008-1C47-43FB-9762-7BDA3DA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11D6-A5C4-4C58-8C09-D832A74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568F92-899C-409F-AE1B-786042E9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136B4-BFBA-4896-AF9E-F9ABEEC5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4BD8B-BFD2-49D6-B04A-BC07DB4E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A37A-EA66-4AE6-A513-588A1E7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E9D4-69A8-432D-AACB-AC45C92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04DC-DBEE-4BDF-B8F7-A513A240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67D5-E275-429C-89EF-9EB5614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8A3-A422-473B-BD7B-ED038D2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F7C6-DF50-44D6-B933-6259F96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A84D-2360-439E-9590-0CE76A8D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B76E-6302-4154-B1AD-BE7D83C3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8FE8-825B-4283-A3A2-114461A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835C-1619-4044-854F-18C1AA87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77BF-CCFE-46A8-ABE8-C1689D7D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A508-161C-4922-B0D1-26A0309A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F958-B281-4413-A826-0FB133D7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A995-48BF-4A8A-8C38-59F01247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D70B-C37C-464A-8C8B-02CE6E29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C4E-A393-42D3-B560-14D6A558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DE11-ADFF-4756-B50D-C0D0E974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15F9D-88A4-4088-8F7C-B0E508E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8A79-9103-4F2F-BE7B-14359D72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07F4-C210-4666-A288-80678A95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FFF4-0A93-48CC-AE62-F1E0B18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6519B-0C42-4D4A-A35D-985E4E2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F037-DD73-43A4-98DE-416F57D2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34FC-3087-481A-8886-E09FF268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DBCB-6112-41AB-A15B-64D302A5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F975D-0DCE-49BD-833B-DEB01086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97C-2BB8-416B-B863-916971A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BBE15-97D8-4C30-99A2-CFCCB8F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858CC-6800-40D5-8733-EAE35DD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F332-8269-4A1E-A72F-1399FDCF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135B0-E574-4640-A27F-F7290931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62E5-E2D3-4D50-A9FE-CFEE2EB4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A610-4F14-4C18-BEA4-E0A9E1F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4335-B33B-4421-A46E-800BD36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25008-28C1-4C67-AF33-4D84987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B9567-717A-4FC8-A218-565852BD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206D-B1B4-4E55-B5C6-87AD183E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C9F-59E8-4E88-A4B1-27B751D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0874-BB4B-4C6F-A40D-56534F6E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6DD4-0CF5-4928-96D4-CD8E2CD6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5DDD2-4E90-4C65-89FE-7926A01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7437-2E9C-4A0D-8B36-D930E7DE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572DB-82F9-49F2-BDAB-DB8DEA82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4AB4A-F4BF-44CA-99F1-49461CD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7ABF-9029-4344-BC56-106AA1EB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8186-1076-4B24-A0D4-E37A2945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B165-0204-4B94-B759-BD9471E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EAF7-1836-4410-AD75-FA718FF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E70-C090-49B7-8F3C-77963A8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9FDA4-4E36-44B8-8CE8-011A32B9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C8F9-EBC2-4A4F-9BE2-7E0709D4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6C0E-E4F2-4054-94F7-7F2C51EB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3D00-A9AB-41B8-A789-438D3118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E0588-3C5B-48DE-9738-A3B67A50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54CBF-C0E4-46C0-BD84-ABFC631E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AF1F4-FC88-4403-A739-39A97DA7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4ADCB-7692-4327-924E-03722D81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5ADB-A517-41DA-AF6E-431CFF0A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11F1-9FDB-4BE0-B66B-BE066F9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453-6B90-4D1E-8BC5-E519F30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6FE2-D5C8-465B-B8FB-F670C31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820D-9390-46D5-95C3-20DC9C9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347F-9D04-4963-A98C-82FB48BD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FF08-29C5-4FC6-A66E-110CE727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C697-75DD-45BD-ADAF-F1DBFF21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057E-8EC4-458B-859A-06FB3EE1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455C-4230-414B-9EF1-64BF2661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1A0E-1B43-49F5-9DDE-C3737EB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38C3A-206B-40F4-AA25-F63C4C0B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6A7EC-B8C1-4E84-B225-C38EA842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F92-3F60-4A2F-8DBA-716103D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465C-CB45-4B2D-B852-E05E526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736F2-0A0B-40A3-B038-F9BFD2D5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9A69-8D6D-448A-B2A7-A2ED570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5D101-C93B-446B-A230-2049754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F898-AEB5-48C7-96C8-CF63E806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AAAE-B069-40CA-87EC-5D863121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826DF-9F5B-4394-9D8F-AB1C761C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4CB53-316F-4A9E-9DB0-2A315E87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FF213-0398-423E-860B-39F3343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58FBD-2A14-40AA-978B-7B01E8EC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5F35-B674-47F3-B93F-D023A888C3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2653-4A73-450A-8C3B-B82E047C51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9CC6-1028-4DCA-89BF-6D9544133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8343-E4D3-498C-81AA-B85EDA9D4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5BD-5F12-4619-B880-A5628AA9B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23CE-67FB-42CC-A8F0-D2D92541E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AC9-9F56-4705-B3CF-92E73CCA1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6C4-10F3-4B4D-9CFF-531AC92B2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DD1-DAA3-4041-BADA-EE4720AB50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0B2F-E488-43CC-8E72-BA280B12F5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4406-EA97-4137-A1C4-4789678BD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FBEE-8C24-4260-9C95-F131A004DD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675-B09D-4A29-B45B-05D2C3B20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6491-A355-4AA4-BCAC-07A62C85C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448C-5BF7-4F14-8480-BC492B274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C4E-854C-44A1-B5D2-049D187B8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CD49-9C40-4BD6-9243-9620A8B903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C0F8-9CC0-4624-935F-30F81FEC88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21EC-DE1B-4BBB-92D2-03DE8A4696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8FFE-CC36-4F15-9F6F-5DE37A0DA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9C06-9DBB-4D0C-A25A-E30754ABF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A7CC-F87D-4168-B1A6-B8FC7AAB5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669-A74F-4BF2-95D9-A5A165887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3DE-94D5-462A-9335-0AA238DAA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3B6D-7219-4C1C-87DC-A7AF3C02E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EB44-D9C1-4DA5-AAD0-5A8ECAF98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1DE-3272-48FF-8996-FC96064CB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C21-C276-499E-A8E5-199B7EF5C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721-391E-4CBE-B147-815FC082B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C00-51E1-4F6F-A86A-DC5101971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C4C-8442-4F7A-BCAE-75FBAD5B10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3844-65A5-41FA-B917-DB2DA85A6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6A1-16E3-4908-9678-327492940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653E-B240-4EED-ACCD-CBE3E0DDD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245A-F6DA-455B-A596-362010355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FCA-39E7-4D6F-BEA4-C289274CB5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E2A3-11D3-48D3-AC67-C8B4C080D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CB1-92D2-4981-BD6C-F9C8FFEB3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98A1-911B-46EF-ABD4-99DC7DA71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44BC-ED67-43BB-8A74-B67597100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57480" y="1628640"/>
            <a:ext cx="6629400" cy="1257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319480" y="3641760"/>
            <a:ext cx="45050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257040" y="1195560"/>
            <a:ext cx="8629920" cy="4466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684360" y="3170160"/>
            <a:ext cx="439236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39640" y="4437000"/>
            <a:ext cx="43927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62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262080" y="1566720"/>
            <a:ext cx="8619840" cy="48866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81400" cy="1181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46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460836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373720"/>
            <a:ext cx="460836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684360" y="5964120"/>
            <a:ext cx="662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5840" y="870120"/>
            <a:ext cx="8572320" cy="5438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348000" y="2867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4140360" y="458136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588000" y="458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2124000" y="5805360"/>
            <a:ext cx="115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4520" y="2143080"/>
            <a:ext cx="7914960" cy="2571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04720" y="1400040"/>
            <a:ext cx="8134560" cy="4057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916360" y="4781520"/>
            <a:ext cx="19429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516720" y="4781520"/>
            <a:ext cx="1942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247760" y="2481120"/>
            <a:ext cx="6648480" cy="1895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5508720" y="3803760"/>
            <a:ext cx="230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81160" y="1504800"/>
            <a:ext cx="8581680" cy="3848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042920" y="293832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826920" y="352908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900000" y="413388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4360" y="4724280"/>
            <a:ext cx="755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309600" y="1481040"/>
            <a:ext cx="8524800" cy="3895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84360" y="286704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7632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12720" y="409104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24000" y="1214280"/>
            <a:ext cx="8496000" cy="4429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74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4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85840" y="1185840"/>
            <a:ext cx="8572320" cy="4486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319896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539640" y="384660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98560" y="4379760"/>
            <a:ext cx="590544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027760"/>
            <a:ext cx="59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5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